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1851-3D73-469C-9035-74A020D0B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this slide up while you answer any questions (or until next speaker starts his/her talk) so people can copy down the U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mention that Suzi is working on that last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go over some of the main features.  Next slide has screensh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6931-856C-4F08-9BF0-18955D3C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7061-E194-4244-9676-C7D6F8C2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AB0-F0D2-43C9-A7F8-A764B2D4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894-B86D-4B3F-92C8-D12D8202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E11F-F0B8-47A7-9C0C-FD59E177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75D4-F4D4-43A2-ABBB-763FE1A6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423-06F9-4372-86BB-20FA5F06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C0D-E1BA-40D7-B61E-877FCE2C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1E61-D163-4211-B6D8-04B02393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F11-C08B-4787-928C-3A12E6B9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9CBC-51AC-42F8-AEC2-6D35E75A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586-0F93-4967-A3E3-CCA9B9F6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64DB-FB04-4A3B-BE53-9D7AAF5F86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.fruitfly.org/annot/apollo/install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pollo Progress Re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5410080"/>
            <a:ext cx="7467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MOD Meeting, Berke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ptember 15,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718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520" y="4419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 available at SourceForge: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ttp://sourceforge.net/projects/gmod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er available at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.fruitfly.org/annot/apollo/install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671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y 2003: Coming so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Upgrade to JDK 1.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andle non-gene annotations be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rove Jal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gapped alignments for GAME (cig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Match/mismatch coloring sch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Get alignment sequences for Ensemb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ave sequences, don’t have ciga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memory u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rove synteny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ayer raw BLAST results over current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Highlight matches to new 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ighlighting new sequ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sequences (since last pipeline run) bo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” date for each type can be specified in tiers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pipeline databases might have different update 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"Fly Sequence", "Community GB” 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31-JAN-2003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"BLASTX Similarity to Fly", "BLASTX Similarity to Fly” 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31-MAY-2002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lignments for Jalview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ull alignment of results (including ga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gars are a compact way to represent gapped alig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TATAGGGATAT-----ATAGG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TATA---ATATCCCCCATAGG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 5  I 3 M 4 D 5 M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need to represent mismatches in cigars, just g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ignment display before and after cigar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4191120"/>
            <a:ext cx="7086600" cy="249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70851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OP/Apoll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P now integrated with Apo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as standalone application or launch from Apo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ad/layer raw analysis resul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ST (all flav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SC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gene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ing soon: BLAT (Josh Kamink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OP/Apollo GUI for BLA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pollo use/reu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48 downloads YT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93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2 Sol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2 Mac OS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3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 Generic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groups are adapting Apollo to their needs (e.g. writing new data adap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Apollo Te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kele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zanna Lewis, Nomi Harris, Mark Gibson, Sima Misra, (John Richter), (Colin Wi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ll the FlyBase cura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ger Institu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vek Iyer, (Steve Searle), (Michele Cla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G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Goodstein (adding regex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03:56:12Z</dcterms:created>
  <dc:creator>Nomi Harris</dc:creator>
  <dc:description/>
  <dc:language>en-US</dc:language>
  <cp:lastModifiedBy>Nomi Haris</cp:lastModifiedBy>
  <dcterms:modified xsi:type="dcterms:W3CDTF">2003-09-15T04:37:55Z</dcterms:modified>
  <cp:revision>310</cp:revision>
  <dc:subject/>
  <dc:title>Slide 1</dc:title>
</cp:coreProperties>
</file>